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3E9-2E39-4EC0-B117-1EBB7122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5CEC-E7A4-47DE-978C-AE304A45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B03-9051-414C-8182-5B2A977F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5850-3B3A-423B-90FE-8F9CD652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BAA4-A0CC-48D3-AE1F-AA86226D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71D-A2BF-4868-9197-B645FCCE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542-2105-4A8E-A156-6197FDD4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40EF-F26C-4423-85BF-AB4DA58E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9F73-89A9-4A07-AE04-3A89B233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4675-B812-499B-8E08-2D4254E4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5C0-A280-44B5-8A30-01EA159F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F6F-54D3-4B0F-9D22-84FE0A19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BD3C-0C56-4018-BDED-124D5D434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6320" y="2195640"/>
          <a:ext cx="128880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195640"/>
                    <a:ext cx="128880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416560" y="2195640"/>
          <a:ext cx="1289160" cy="23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6560" y="2195640"/>
                    <a:ext cx="128916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5416560" y="6781680"/>
          <a:ext cx="1289160" cy="230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6560" y="6781680"/>
                    <a:ext cx="128916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76320" y="6767640"/>
          <a:ext cx="1288800" cy="2300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320" y="6767640"/>
                    <a:ext cx="128880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0" y="0"/>
          <a:ext cx="3505320" cy="2068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350532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429000" y="0"/>
          <a:ext cx="3429000" cy="2133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0"/>
                    <a:ext cx="3429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0" y="4648320"/>
          <a:ext cx="3505320" cy="2068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4648320"/>
                    <a:ext cx="350532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429000" y="4648320"/>
          <a:ext cx="3429000" cy="2133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9000" y="4648320"/>
                    <a:ext cx="34290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079960" y="6858000"/>
          <a:ext cx="139716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960" y="6858000"/>
                    <a:ext cx="139716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04920" y="6781680"/>
          <a:ext cx="1396800" cy="22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6781680"/>
                    <a:ext cx="1396800" cy="22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156280" y="2286000"/>
          <a:ext cx="1396800" cy="22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56280" y="2286000"/>
                    <a:ext cx="139680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28600" y="2227320"/>
          <a:ext cx="1397160" cy="226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2227320"/>
                    <a:ext cx="139716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0"/>
          <a:ext cx="3505320" cy="2068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350532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429000" y="0"/>
          <a:ext cx="3429000" cy="2133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0"/>
                    <a:ext cx="3429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0" y="4648320"/>
          <a:ext cx="3505320" cy="2068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4648320"/>
                    <a:ext cx="350532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429000" y="4648320"/>
          <a:ext cx="3429000" cy="2133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9000" y="4648320"/>
                    <a:ext cx="34290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7:46:24Z</dcterms:created>
  <dc:creator>Dina Winterton</dc:creator>
  <dc:description/>
  <dc:language>en-US</dc:language>
  <cp:lastModifiedBy>Dina Winterton</cp:lastModifiedBy>
  <dcterms:modified xsi:type="dcterms:W3CDTF">2009-04-13T18:17:41Z</dcterms:modified>
  <cp:revision>5</cp:revision>
  <dc:subject/>
  <dc:title>Slide 1</dc:title>
</cp:coreProperties>
</file>